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0.gif" ContentType="image/gi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F93-9D37-48C7-99FA-A318BBE5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7BA-5886-426B-BB06-EDB57A18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04C-A54D-4A3F-AC0A-AEAEA74A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414-B3C4-48A4-A969-80E0E6EA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BEC-FFA8-4885-97BE-D56D454C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FF7-2A7B-45BB-A116-441E5C7E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0B1-A438-42B4-8DFF-9400A7B8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F86-49D0-46C6-A0DA-7CA35AA2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CF1-5C83-489B-AF49-DE80CD6B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143-770A-4C4B-AFAA-A64770AF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A80-FCE9-4F99-9648-183B8979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F51-4B1A-42CB-8AD4-BE860FCA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3664-2076-4931-8C3F-1C326F421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4.wmf"/><Relationship Id="rId11" Type="http://schemas.openxmlformats.org/officeDocument/2006/relationships/image" Target="../media/image3.wmf"/><Relationship Id="rId12" Type="http://schemas.openxmlformats.org/officeDocument/2006/relationships/image" Target="../media/image7.wmf"/><Relationship Id="rId13" Type="http://schemas.openxmlformats.org/officeDocument/2006/relationships/image" Target="../media/image6.png"/><Relationship Id="rId14" Type="http://schemas.openxmlformats.org/officeDocument/2006/relationships/image" Target="../media/image8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.wm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ma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Angelina, Claire, and Ni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229400">
            <a:off x="4038120" y="1980720"/>
            <a:ext cx="381240" cy="335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936000">
            <a:off x="5181120" y="3276360"/>
            <a:ext cx="395280" cy="565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81480" y="2590920"/>
            <a:ext cx="439920" cy="53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789000">
            <a:off x="4800600" y="419076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343400" y="1752480"/>
            <a:ext cx="844560" cy="258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1456200">
            <a:off x="4419360" y="426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>
            <a:lum contrast="40000"/>
          </a:blip>
          <a:stretch/>
        </p:blipFill>
        <p:spPr>
          <a:xfrm>
            <a:off x="5181480" y="4038480"/>
            <a:ext cx="428760" cy="435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 rot="19240200">
            <a:off x="4266720" y="3733560"/>
            <a:ext cx="32076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105520" y="2057400"/>
            <a:ext cx="288720" cy="41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 rot="19462200">
            <a:off x="4038480" y="33523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 rot="2436600">
            <a:off x="4114440" y="2971440"/>
            <a:ext cx="24624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>
            <a:lum contrast="40000"/>
          </a:blip>
          <a:stretch/>
        </p:blipFill>
        <p:spPr>
          <a:xfrm rot="1145400">
            <a:off x="4038120" y="2590560"/>
            <a:ext cx="277920" cy="282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4267080" y="2286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 rot="1030200">
            <a:off x="4876920" y="38858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 rot="19942200">
            <a:off x="5181480" y="312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mazone BT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ingdom of Kerma lasted from about 2000-1500 B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Kerma got most of its wealth because they controlled the trade between Central Asia and Egy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745800">
            <a:off x="6552720" y="304920"/>
            <a:ext cx="744480" cy="22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mazone BT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 in Kerma were highly skilled at making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round the 1500s B.C. the Egyptians took over Nubia.  Egypt ruled Nubia for about the next _____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oulder"/>
              </a:rPr>
              <a:t>BONUS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Kerma closer to Napata or Mer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ë</a:t>
            </a:r>
            <a:r>
              <a:rPr b="1" lang="en-US" sz="6000" spc="-1" strike="noStrike">
                <a:solidFill>
                  <a:srgbClr val="f115b7"/>
                </a:solidFill>
                <a:latin typeface="Arial"/>
                <a:ea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53080" y="5334120"/>
            <a:ext cx="554040" cy="63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5638680"/>
            <a:ext cx="61884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133720" y="5181480"/>
            <a:ext cx="819000" cy="9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57200" y="5562720"/>
            <a:ext cx="819000" cy="94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84880" y="4295880"/>
            <a:ext cx="1959120" cy="256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276720" y="5638680"/>
            <a:ext cx="61884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267080" y="5915160"/>
            <a:ext cx="819360" cy="94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523880" y="6048360"/>
            <a:ext cx="619200" cy="80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115b7"/>
                </a:solidFill>
                <a:latin typeface="Alba Super"/>
              </a:rPr>
              <a:t>Congratulations!!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3429000"/>
            <a:ext cx="7848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15b7"/>
                </a:solidFill>
                <a:latin typeface="Market"/>
              </a:rPr>
              <a:t>GOOD JOB!!!!!!!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15b7"/>
                </a:solidFill>
                <a:latin typeface="Market"/>
              </a:rPr>
              <a:t>You finished the quiz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89584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44:51Z</dcterms:created>
  <dc:creator>Default</dc:creator>
  <dc:description/>
  <dc:language>en-US</dc:language>
  <cp:lastModifiedBy>Marc Swanson</cp:lastModifiedBy>
  <dcterms:modified xsi:type="dcterms:W3CDTF">2009-01-15T22:05:05Z</dcterms:modified>
  <cp:revision>15</cp:revision>
  <dc:subject/>
  <dc:title>Kerma Quiz</dc:title>
</cp:coreProperties>
</file>